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E21-42F7-48A2-8FAE-8306F806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C76-01EC-4DB6-8DB1-D49978DE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B7B-4730-4020-981D-C5DD04C8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31C-0802-42BB-9F32-5E67AC19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B88-5843-417A-92AC-F15EA492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10C-7432-4202-8AF6-FE147DB4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E83-507F-49F6-970A-F93154D2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CAC-2211-4D07-B30E-9464E5F5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7F2-3109-461E-9C86-FB626EAE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0FF-ACB4-40A5-96B3-8998754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990-9DC1-4940-9A14-C8E1FBA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5C2-01CC-45A5-A120-F3D59EF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4274-1DCC-46A5-AA40-69E8FE98F7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0ce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uadalupe 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li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1600200" y="1143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eek City – Sta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http://www.mrdowling.com/images/701olympics.gif"/>
          <p:cNvPicPr/>
          <p:nvPr/>
        </p:nvPicPr>
        <p:blipFill>
          <a:blip r:embed="rId1"/>
          <a:stretch/>
        </p:blipFill>
        <p:spPr>
          <a:xfrm>
            <a:off x="2362320" y="1981080"/>
            <a:ext cx="485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hilosoph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33520" y="1523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 study of wisdom and the right way to l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http://www.discovery-project.eu/images/greco.jpg"/>
          <p:cNvPicPr/>
          <p:nvPr/>
        </p:nvPicPr>
        <p:blipFill>
          <a:blip r:embed="rId1"/>
          <a:stretch/>
        </p:blipFill>
        <p:spPr>
          <a:xfrm>
            <a:off x="3505320" y="2335320"/>
            <a:ext cx="38862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eninsula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04920" y="1371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ea of land nearly surrounded by w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http://www.ionian-islands.org/zante/photos/keri-peninsula-600x450.jpg"/>
          <p:cNvPicPr/>
          <p:nvPr/>
        </p:nvPicPr>
        <p:blipFill>
          <a:blip r:embed="rId1"/>
          <a:stretch/>
        </p:blipFill>
        <p:spPr>
          <a:xfrm>
            <a:off x="838080" y="2111400"/>
            <a:ext cx="632484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eloponnesian War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685800" y="106668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r between Athens and Spar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http://www.buzzle.com/img/articleImages/274814-4866-6.jpg"/>
          <p:cNvPicPr/>
          <p:nvPr/>
        </p:nvPicPr>
        <p:blipFill>
          <a:blip r:embed="rId1"/>
          <a:stretch/>
        </p:blipFill>
        <p:spPr>
          <a:xfrm>
            <a:off x="3124080" y="1709640"/>
            <a:ext cx="47246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Oligarch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09480" y="1523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ind of government  that is run by a small group of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i1.squidoocdn.com/resize/squidoo_images/590/draft_lens8394611module72494711photo_1_1259909965bank-of-greece-nauplion.jpg"/>
          <p:cNvPicPr/>
          <p:nvPr/>
        </p:nvPicPr>
        <p:blipFill>
          <a:blip r:embed="rId1"/>
          <a:stretch/>
        </p:blipFill>
        <p:spPr>
          <a:xfrm>
            <a:off x="1295280" y="2602080"/>
            <a:ext cx="57913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arbor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990720" y="17524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eltered place along a coastl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http://kypros.org/Occupied_Cyprus/cyprus1974/images/villages_towns/Kyrenia_harbor_750_bg.jpg"/>
          <p:cNvPicPr/>
          <p:nvPr/>
        </p:nvPicPr>
        <p:blipFill>
          <a:blip r:embed="rId1"/>
          <a:srcRect l="0" t="0" r="593" b="16619"/>
          <a:stretch/>
        </p:blipFill>
        <p:spPr>
          <a:xfrm>
            <a:off x="1066680" y="2895480"/>
            <a:ext cx="5838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7" descr="http://t2.gstatic.com/images?q=tbn:ANd9GcTmBMOg4L_J_7FVYoyjkB-y4M_3iAYYfeo9p4z0SGzG1LCplyST6g"/>
          <p:cNvPicPr/>
          <p:nvPr/>
        </p:nvPicPr>
        <p:blipFill>
          <a:blip r:embed="rId1"/>
          <a:stretch/>
        </p:blipFill>
        <p:spPr>
          <a:xfrm>
            <a:off x="609480" y="1819440"/>
            <a:ext cx="765828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place where Greeks built their city-states arou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http://t1.gstatic.com/images?q=tbn:ANd9GcQWN7Ww6w-GgDmiHM0Tp34UcFlTqDZ6l-eoQnamnvmIuoAsC7Qf"/>
          <p:cNvPicPr/>
          <p:nvPr/>
        </p:nvPicPr>
        <p:blipFill>
          <a:blip r:embed="rId1"/>
          <a:stretch/>
        </p:blipFill>
        <p:spPr>
          <a:xfrm>
            <a:off x="1295280" y="1663560"/>
            <a:ext cx="67820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ssembl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752480" y="121932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awmaking place where people voted on issues that helped their c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http://t3.gstatic.com/images?q=tbn:ANd9GcTRrSAujRaF5so5EPfejbqud-KITRHdZW7MfmSQrkQ5Nk5aJvzd"/>
          <p:cNvPicPr/>
          <p:nvPr/>
        </p:nvPicPr>
        <p:blipFill>
          <a:blip r:embed="rId1"/>
          <a:stretch/>
        </p:blipFill>
        <p:spPr>
          <a:xfrm>
            <a:off x="2666880" y="2035080"/>
            <a:ext cx="50292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600200" y="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itiz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0" y="914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erson who has certain right and responsibilities to his or her country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63360" y="-801720"/>
            <a:ext cx="27813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5" descr="http://farm8.staticflickr.com/7158/6813133621_33d9d0b23d_z.jpg"/>
          <p:cNvPicPr/>
          <p:nvPr/>
        </p:nvPicPr>
        <p:blipFill>
          <a:blip r:embed="rId1"/>
          <a:stretch/>
        </p:blipFill>
        <p:spPr>
          <a:xfrm>
            <a:off x="1143000" y="1519200"/>
            <a:ext cx="80010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362320" y="5335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olo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33520" y="14479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roup of people who  lived apart from Greece but kept economic ties with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3360" y="-725400"/>
            <a:ext cx="266724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7" descr="http://www.utexas.edu/courses/greeksahoy!/greek_colonies_550.jpg"/>
          <p:cNvPicPr/>
          <p:nvPr/>
        </p:nvPicPr>
        <p:blipFill>
          <a:blip r:embed="rId1"/>
          <a:stretch/>
        </p:blipFill>
        <p:spPr>
          <a:xfrm>
            <a:off x="2895480" y="2819520"/>
            <a:ext cx="48960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1752480" y="6858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emocrac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066680" y="175248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m of government where people vote to make decisio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http://www.esotericquest.org/greece/images/history.jpg"/>
          <p:cNvPicPr/>
          <p:nvPr/>
        </p:nvPicPr>
        <p:blipFill>
          <a:blip r:embed="rId1"/>
          <a:stretch/>
        </p:blipFill>
        <p:spPr>
          <a:xfrm>
            <a:off x="2209680" y="2819520"/>
            <a:ext cx="49532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2743200" y="3049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u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219320" y="15238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ear evidence  and make decisions in a court of la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63360" y="-90180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3360" y="-90180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9" descr="http://greece.mrdonn.org/greece09.gif"/>
          <p:cNvPicPr/>
          <p:nvPr/>
        </p:nvPicPr>
        <p:blipFill>
          <a:blip r:embed="rId1"/>
          <a:stretch/>
        </p:blipFill>
        <p:spPr>
          <a:xfrm>
            <a:off x="1905120" y="2819520"/>
            <a:ext cx="60958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Monarch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609480" y="14479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vernment headed by one rul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63360" y="-749160"/>
            <a:ext cx="2286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http://ihac.nenu.edu.cn/images/guxila00.jpg"/>
          <p:cNvPicPr/>
          <p:nvPr/>
        </p:nvPicPr>
        <p:blipFill>
          <a:blip r:embed="rId1"/>
          <a:stretch/>
        </p:blipFill>
        <p:spPr>
          <a:xfrm>
            <a:off x="1295280" y="2457360"/>
            <a:ext cx="67820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5:49:18Z</dcterms:modified>
  <cp:revision>93</cp:revision>
  <dc:subject/>
  <dc:title>Ancient Greece</dc:title>
</cp:coreProperties>
</file>